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03EA6-6CC7-4CAD-93D7-9CFFF328E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F336E-A518-4F1A-9D32-97CBE10BDCD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47499-6B6E-44B7-AC81-225ABDCEAE3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9C921-3CD7-4849-9E15-72E62771ACC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B6D51-42EE-4B0F-9512-F917B308F2D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6F900-223D-44DB-870D-BC95BA6E132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B653F-5315-4D1B-A1AC-6AC16F2A41C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7F076-89DD-4B03-B548-82F37483BB3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34A74-CD2B-40A1-A330-A0C7671D61E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98244-C2BC-4A8B-8D7B-1365A9BDA43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5FB65-C14D-4ADB-A768-A950C002187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0ECA8-DC3A-485B-BBD9-D153ECF5743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05BC-93DB-49B1-9EA8-44EBCD808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4D53-2B3E-4B5D-B711-F9F0AA3E4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C677-7DE6-44F5-857B-055AAFE81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9ED8-EA8E-4631-A359-BE7DE977A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9AB33-BF59-4901-9954-AFF46C7EB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34937-C06F-4764-8B5A-1EBE00294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74878-C441-4ABC-8EF5-0889FC53F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A8CFE-35F5-476A-A5A4-8AE32E161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A4AD9-3FCE-47DD-8E5D-EA0FF1395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437F9-6F7B-4F06-9846-4DB37AC88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0B7FE-F318-4DFB-8C15-0D453A546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2AD5-9AB4-4D17-94A0-4F6DDE55C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96B4C-993C-4833-859E-F82DFA2C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FD0A2-B365-48F7-8680-62C870821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D16D5-3778-4E78-922B-A2EFCCD04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6E77E-CB53-477F-8D0D-0B0BCC9FA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FFA9B-FE79-4F22-8A6B-941806C86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FB16-58E3-4740-B25F-BF22A56ED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2A83-DB65-40A2-A798-0D2518103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E5D9-105B-40C4-B83A-9F9ADFABC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1D12-298D-4F6D-8395-047038C6C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2243-45DF-4ED5-B51A-7A65130D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2445-AE89-455A-A205-D11A3694F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C9C8-27E2-4565-87D0-CA2A12D39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3493B-6E64-4422-9842-B0308A93358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26354-00C5-41B3-B18B-D59864DC971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URRICULUM DEVELOPMEN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AIMS OF EDUCA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VELOP LEARNERS INTELLECTUAL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VELOP LEARNERS AS FUNCTIONING CITIZE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VELOP LEARNERS AS INDIVIDUALS IN OUR SOCIE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VELOP LEARNERS AS ACTUAL OR POTENTIAL LEARN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CHOOLS OF THOUGH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RENNIALIS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AVE ABSOLUTE ESSENTIALS AND TEACH IN SEPER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DEALIS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ALITY EXISTS IN EXPERIEN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ALIS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ORY PRECEEDS PRACTI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AGMATIS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OW TO THINK RATHER THAT WHAT TO THIN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CONSTRUCTIONIS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BUILD THE CULTU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ISTENTIALIS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REEDOM OF CHOI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ELEMENTS OF CURRICULUM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BJECT MAT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ARN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CIE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RITICAL QUESTION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O SHOULD BE EDUCATED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O CAN BE EDUCATED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AT KIND OF EDUCATIONAL EXPERIENCES SHOULD BE OFFERED TO GIVEN GROUPS OF LEARN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W MUCH CAN OUR NATION AFFORD TO SPEND ON EDUCATION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 WHAT EXTENT SHOULD EDUCATION BE UNIFORM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W CAN THE NEEDS OF THE OUR GREAT VARIETY OF LEARNERS BE MET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MEANING OF CURRICULUM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THE EXPERIENCES UNDER THE AUSPICES OF A SCHO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URRICULUM THEORI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EE-CHO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G BUC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MPOWER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DUCATION IN BAL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NSFORM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NEEDS OF EDUCA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DENTIFY STRENGTH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ONENT GRADUA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W OPPORTUNI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RENGTHEN WORK ETH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PROVE PERFORM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ILD DECISION-MAK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IVIDUALIZE TEACHING AND LEAR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NISTER TO SPECIAL N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EK CURRICULUM BAL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ADDITIONAL NEED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SS DISMAL AND UNINSPIR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MPOWER TEACH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PROVE USE OF TI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PITALIZE ON OUTSIDE EXPERI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MPHASIZE SOCIAL RESPONSIB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KE SCHOOLS TRULY HUMA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MOTE INTELLECTUAL ENDEAV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FUTURE DEVELOPMENT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CREASED KNOWLED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ACTIVE ELECTRONIC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JECTICE CURRICULUM PLANN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NGTH OF DAY AND YE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ME FRAM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ANNING NETWORK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DITIONAL ELECTRONIC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RUG ENHANCED INTELLIGE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W TAX BA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AKE OVER SCHOO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FETIME LEARN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HILOSOPHICAL VIEW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DITIONALIS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GRESSIVIS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5:53:24Z</dcterms:created>
  <dc:creator>AEURY</dc:creator>
  <dc:description/>
  <dc:language>en-US</dc:language>
  <cp:lastModifiedBy>User</cp:lastModifiedBy>
  <dcterms:modified xsi:type="dcterms:W3CDTF">2012-08-22T18:07:34Z</dcterms:modified>
  <cp:revision>3</cp:revision>
  <dc:subject/>
  <dc:title>CURRICULUM DEVELOPMENT</dc:title>
</cp:coreProperties>
</file>